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209-8759-42CA-971D-A3033560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8FA-2906-4921-9E14-DF69670B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F59-90DC-4622-87BD-34E62978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4FC-DC7C-423D-B05D-A99C6C07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6D98-878C-4E4D-A9BD-25B65CEB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4509-17B7-4E94-BAB4-C9EFDF1C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6647-71CD-451F-94CE-23BEED79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E029-DA8F-419E-9830-1B87AA42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8ACE-699C-4041-A7BA-0F2E0A00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B9AE-B797-4962-8450-96C2EB2D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31C4-F187-4274-881D-947D4CC5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D6E-A8FA-4BC9-9EA1-20DDC018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F6D5-3CBA-47AB-9CE9-DA513AB0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93C-8057-4262-9235-87C2B3CD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5DC9-6C06-4EE8-A351-91CE3DAA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20A5-E222-48BE-81B8-FDC3DD25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5A7F-AF40-4BEC-B5D8-12CC5B53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736-E521-442B-A257-99C9F1E1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F7C-33A6-4399-8BC2-65A43048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0BD-DA31-4326-9AA8-48D7D8C5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3D7-B02C-4930-9FFC-726DBF2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7A0-45F8-4F8C-9CE6-010B4C3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281-BE90-4BD3-A651-FF56FC8B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7B0-A15B-4C88-861C-500F8F4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5E7D-0FCF-458A-AE38-61FD5DF4E6C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BE68-C704-44B5-8C8B-A144E17CD1B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58920" y="2060640"/>
            <a:ext cx="54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نماذج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رسم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على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قماش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من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عداد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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سد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19360" cy="39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454200" cy="4470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411280" y="1330200"/>
            <a:ext cx="4105440" cy="3988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87440" y="981000"/>
            <a:ext cx="4637160" cy="496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1:43:13Z</dcterms:created>
  <dc:creator>digital wave</dc:creator>
  <dc:description/>
  <dc:language>en-US</dc:language>
  <cp:lastModifiedBy>digital wave</cp:lastModifiedBy>
  <dcterms:modified xsi:type="dcterms:W3CDTF">2004-04-29T11:51:35Z</dcterms:modified>
  <cp:revision>2</cp:revision>
  <dc:subject/>
  <dc:title>الشريحة 1</dc:title>
</cp:coreProperties>
</file>