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710-4E4D-452F-AEB6-024ADD16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09F-D1CD-4F51-B137-7DF2B84C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1F6-D629-4F5A-9060-4312C95E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0DB-9A25-4508-B22E-36D42148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941D-6AC1-4B03-A4D2-EB3CFD00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0BAB-4523-41DF-BD8D-AF55D1E9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797D-9D96-459B-9520-DE7CA523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BF02-E5EE-42DC-8FB2-F14F77F4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5310-4B34-458F-A1E6-474A6E9A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674F-0745-4AB8-8420-5BC3475D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0AEE-791D-45B5-B7D2-50E260B7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392-FFB0-4D46-9A8C-6F1B22A5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D0B4-F8E3-4A85-91B7-B936E7D9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8FAD-483E-4134-8D59-FD130C61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0565-90FE-4BE0-ABD0-70EDE032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65E2-533D-491B-B671-7C1BBDE6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117F-0602-4491-A72E-AF081236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44F-AFFC-4640-A03D-E10D10B5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B39-3F49-4BAE-858D-453D65AC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AF0-BB2C-4722-AC59-0C63E1E8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E12-C9D9-4EE4-9965-E0F4ED81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BC0-D7A2-4E42-83DC-84835AA1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97D-3B7E-40B5-BB4F-4851D581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D06-732F-4EF7-B825-C27C5733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8965-5A4E-4FAF-A6EB-7F425870C63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9BC6-FC05-4717-81D2-B87F5C8243E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58920" y="2060640"/>
            <a:ext cx="54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نماذج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الرسم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على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القماش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من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اعداد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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سدي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19360" cy="396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3454200" cy="4470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411280" y="1330200"/>
            <a:ext cx="4105440" cy="3988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87440" y="981000"/>
            <a:ext cx="4637160" cy="496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1:43:13Z</dcterms:created>
  <dc:creator>digital wave</dc:creator>
  <dc:description/>
  <dc:language>en-US</dc:language>
  <cp:lastModifiedBy>digital wave</cp:lastModifiedBy>
  <dcterms:modified xsi:type="dcterms:W3CDTF">2004-04-29T11:51:35Z</dcterms:modified>
  <cp:revision>2</cp:revision>
  <dc:subject/>
  <dc:title>الشريحة 1</dc:title>
</cp:coreProperties>
</file>