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B3FB1-AD27-4B2F-9DD3-A449B7370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A3C36-2ED7-44E4-9902-F0EA17F43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A48A6-5D25-45B2-BC32-045E847CB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290E1-7982-4844-BA61-E9F5BBB6F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F2D2B-8968-4023-9343-8EC298BC4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FC3A2-07EE-46C3-9E68-9A68BCED8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0BFEB-9BF1-44CF-9B22-F6866B86C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CBE05-BC2D-4ACE-9A71-F23BEC41C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FEB03-77D8-478E-92F9-76D82F3E7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47B5F-8D29-471F-BCA3-ECC17FCE8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E3992-C4D1-4D29-8514-8B41D4B5A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2F466-7723-40E8-916A-77403B0A5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FAEB5-1127-48B7-930E-B2D53F351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CAE6C-C60C-42BE-8CF0-D7A14874B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5DF46-9D28-46B4-83C2-5ED089303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F42B4-A78F-4DBC-A615-48DEA675C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E043F-27EC-4BE1-B14A-5828FAFEB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6EA4E-DFAC-4CF5-B420-D062DAF3D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A8D99-CAAB-4F65-A907-4636A0D3B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CF245-A173-44A4-8A58-274FF0C19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DA5EB-0837-4D26-8280-69BFC7ED8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31D31-1878-4A1B-A192-B7194F0D3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3D357-926E-4A66-94E4-57D4B5347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DF431-F3FF-45EB-87F0-6EA67C481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r" rtl="1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2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9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1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F3B94-ADBB-4FC6-B2FB-F79546B5ADED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75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r" rtl="1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77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14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6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7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1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2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4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5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6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7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0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1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4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6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B17ED-0336-4A16-B019-5C9124140CE9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1258920" y="2060640"/>
            <a:ext cx="54738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5400" spc="-1" strike="noStrike">
                <a:solidFill>
                  <a:srgbClr val="bfcb4f"/>
                </a:solidFill>
                <a:latin typeface="AGA Arabesque Desktop"/>
                <a:cs typeface="AGA Arabesque Desktop"/>
              </a:rPr>
              <a:t>نماذج</a:t>
            </a:r>
            <a:r>
              <a:rPr b="0" lang="en-US" sz="5400" spc="-1" strike="noStrike">
                <a:solidFill>
                  <a:srgbClr val="bfcb4f"/>
                </a:solidFill>
                <a:latin typeface="AGA Arabesque Desktop"/>
                <a:ea typeface="AGA Arabesque Desktop"/>
              </a:rPr>
              <a:t></a:t>
            </a:r>
            <a:r>
              <a:rPr b="0" lang="hi-IN" sz="5400" spc="-1" strike="noStrike">
                <a:solidFill>
                  <a:srgbClr val="bfcb4f"/>
                </a:solidFill>
                <a:latin typeface="AGA Arabesque Desktop"/>
                <a:cs typeface="AGA Arabesque Desktop"/>
              </a:rPr>
              <a:t>الرسم</a:t>
            </a:r>
            <a:r>
              <a:rPr b="0" lang="en-US" sz="5400" spc="-1" strike="noStrike">
                <a:solidFill>
                  <a:srgbClr val="bfcb4f"/>
                </a:solidFill>
                <a:latin typeface="AGA Arabesque Desktop"/>
                <a:ea typeface="AGA Arabesque Desktop"/>
              </a:rPr>
              <a:t></a:t>
            </a:r>
            <a:r>
              <a:rPr b="0" lang="hi-IN" sz="5400" spc="-1" strike="noStrike">
                <a:solidFill>
                  <a:srgbClr val="bfcb4f"/>
                </a:solidFill>
                <a:latin typeface="AGA Arabesque Desktop"/>
                <a:cs typeface="AGA Arabesque Desktop"/>
              </a:rPr>
              <a:t>على</a:t>
            </a:r>
            <a:r>
              <a:rPr b="0" lang="en-US" sz="5400" spc="-1" strike="noStrike">
                <a:solidFill>
                  <a:srgbClr val="bfcb4f"/>
                </a:solidFill>
                <a:latin typeface="AGA Arabesque Desktop"/>
                <a:ea typeface="AGA Arabesque Desktop"/>
              </a:rPr>
              <a:t></a:t>
            </a:r>
            <a:r>
              <a:rPr b="0" lang="hi-IN" sz="5400" spc="-1" strike="noStrike">
                <a:solidFill>
                  <a:srgbClr val="bfcb4f"/>
                </a:solidFill>
                <a:latin typeface="AGA Arabesque Desktop"/>
                <a:cs typeface="AGA Arabesque Desktop"/>
              </a:rPr>
              <a:t>القماش</a:t>
            </a:r>
            <a:r>
              <a:rPr b="0" lang="en-US" sz="5400" spc="-1" strike="noStrike">
                <a:solidFill>
                  <a:srgbClr val="bfcb4f"/>
                </a:solidFill>
                <a:latin typeface="AGA Arabesque Desktop"/>
                <a:ea typeface="AGA Arabesque Desktop"/>
              </a:rPr>
              <a:t>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lvl="1" marL="457200"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5400" spc="-1" strike="noStrike">
                <a:solidFill>
                  <a:srgbClr val="bfcb4f"/>
                </a:solidFill>
                <a:latin typeface="AGA Arabesque Desktop"/>
                <a:cs typeface="AGA Arabesque Desktop"/>
              </a:rPr>
              <a:t>من</a:t>
            </a:r>
            <a:r>
              <a:rPr b="0" lang="en-US" sz="5400" spc="-1" strike="noStrike">
                <a:solidFill>
                  <a:srgbClr val="bfcb4f"/>
                </a:solidFill>
                <a:latin typeface="AGA Arabesque Desktop"/>
                <a:ea typeface="AGA Arabesque Desktop"/>
              </a:rPr>
              <a:t></a:t>
            </a:r>
            <a:r>
              <a:rPr b="0" lang="hi-IN" sz="5400" spc="-1" strike="noStrike">
                <a:solidFill>
                  <a:srgbClr val="bfcb4f"/>
                </a:solidFill>
                <a:latin typeface="AGA Arabesque Desktop"/>
                <a:cs typeface="AGA Arabesque Desktop"/>
              </a:rPr>
              <a:t>اعداد</a:t>
            </a:r>
            <a:r>
              <a:rPr b="0" lang="en-US" sz="5400" spc="-1" strike="noStrike">
                <a:solidFill>
                  <a:srgbClr val="bfcb4f"/>
                </a:solidFill>
                <a:latin typeface="AGA Arabesque Desktop"/>
                <a:ea typeface="AGA Arabesque Desktop"/>
              </a:rPr>
              <a:t></a:t>
            </a:r>
            <a:r>
              <a:rPr b="0" lang="hi-IN" sz="5400" spc="-1" strike="noStrike">
                <a:solidFill>
                  <a:srgbClr val="bfcb4f"/>
                </a:solidFill>
                <a:latin typeface="AGA Arabesque Desktop"/>
                <a:cs typeface="AGA Arabesque Desktop"/>
              </a:rPr>
              <a:t>سدين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" descr=""/>
          <p:cNvPicPr/>
          <p:nvPr/>
        </p:nvPicPr>
        <p:blipFill>
          <a:blip r:embed="rId1"/>
          <a:stretch/>
        </p:blipFill>
        <p:spPr>
          <a:xfrm>
            <a:off x="2843280" y="1484280"/>
            <a:ext cx="3519360" cy="39607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2843280" y="1052640"/>
            <a:ext cx="3454200" cy="44701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" descr=""/>
          <p:cNvPicPr/>
          <p:nvPr/>
        </p:nvPicPr>
        <p:blipFill>
          <a:blip r:embed="rId1"/>
          <a:stretch/>
        </p:blipFill>
        <p:spPr>
          <a:xfrm>
            <a:off x="2411280" y="1330200"/>
            <a:ext cx="4105440" cy="39880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" descr=""/>
          <p:cNvPicPr/>
          <p:nvPr/>
        </p:nvPicPr>
        <p:blipFill>
          <a:blip r:embed="rId1"/>
          <a:stretch/>
        </p:blipFill>
        <p:spPr>
          <a:xfrm>
            <a:off x="2287440" y="981000"/>
            <a:ext cx="4637160" cy="49690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9T11:43:13Z</dcterms:created>
  <dc:creator>digital wave</dc:creator>
  <dc:description/>
  <dc:language>en-US</dc:language>
  <cp:lastModifiedBy>digital wave</cp:lastModifiedBy>
  <dcterms:modified xsi:type="dcterms:W3CDTF">2004-04-29T11:51:35Z</dcterms:modified>
  <cp:revision>2</cp:revision>
  <dc:subject/>
  <dc:title>الشريحة 1</dc:title>
</cp:coreProperties>
</file>