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91F2-47D1-4E98-9096-F2D209AA3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D55F-9791-475A-90B8-AD70D548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E674-4343-406D-9751-A8AE8FD55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3271-D3D9-4060-BBF9-F8213EB59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29B9-C5D1-47F3-86D7-2AF0DAA51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391E-0AA8-4443-93E8-F19E7BB1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D4D2A-B002-4F3C-B282-EE80F5D6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469E-05BD-4FB2-A877-B825985B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DBF0-1C91-4CCB-8448-548A83FB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DF70-966E-41E0-A77E-79EAEB17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A4D6E-B1ED-41DF-807D-79481E9B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873B-5E87-4602-936C-79EB489D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A9D9-A9D4-48C9-B234-8718DB4F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DC6F8-563F-4D1C-9143-3C7E9AAE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51C2-BA97-45AC-BE5C-5B75E4D7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9B46-4ABF-4DA9-86D4-44DD5A4C7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2966-CF3F-4B03-B633-D77D1129C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BD26-5A98-4B20-8C82-1964C937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CC3A-82F8-4536-9E1A-2361318B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9798-BF51-45C9-873F-50D09B1E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05B2-BB5F-42E8-A951-F3633602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F78F-E775-4AE4-B654-9C6F9609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24E0-176F-4907-B220-59664667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9178-0D93-4C86-A559-47FC3519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EDAA-2BC6-4849-9230-4082775AE0F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C419-0053-4B75-8C99-9BD8700FB5D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258920" y="2060640"/>
            <a:ext cx="547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bfcb4f"/>
                </a:solidFill>
                <a:latin typeface="AGA Arabesque Desktop"/>
                <a:cs typeface="AGA Arabesque Desktop"/>
              </a:rPr>
              <a:t>نماذج</a:t>
            </a:r>
            <a:r>
              <a:rPr b="0" lang="en-US" sz="5400" spc="-1" strike="noStrike">
                <a:solidFill>
                  <a:srgbClr val="bfcb4f"/>
                </a:solidFill>
                <a:latin typeface="AGA Arabesque Desktop"/>
                <a:ea typeface="AGA Arabesque Desktop"/>
              </a:rPr>
              <a:t></a:t>
            </a:r>
            <a:r>
              <a:rPr b="0" lang="hi-IN" sz="5400" spc="-1" strike="noStrike">
                <a:solidFill>
                  <a:srgbClr val="bfcb4f"/>
                </a:solidFill>
                <a:latin typeface="AGA Arabesque Desktop"/>
                <a:cs typeface="AGA Arabesque Desktop"/>
              </a:rPr>
              <a:t>الرسم</a:t>
            </a:r>
            <a:r>
              <a:rPr b="0" lang="en-US" sz="5400" spc="-1" strike="noStrike">
                <a:solidFill>
                  <a:srgbClr val="bfcb4f"/>
                </a:solidFill>
                <a:latin typeface="AGA Arabesque Desktop"/>
                <a:ea typeface="AGA Arabesque Desktop"/>
              </a:rPr>
              <a:t></a:t>
            </a:r>
            <a:r>
              <a:rPr b="0" lang="hi-IN" sz="5400" spc="-1" strike="noStrike">
                <a:solidFill>
                  <a:srgbClr val="bfcb4f"/>
                </a:solidFill>
                <a:latin typeface="AGA Arabesque Desktop"/>
                <a:cs typeface="AGA Arabesque Desktop"/>
              </a:rPr>
              <a:t>على</a:t>
            </a:r>
            <a:r>
              <a:rPr b="0" lang="en-US" sz="5400" spc="-1" strike="noStrike">
                <a:solidFill>
                  <a:srgbClr val="bfcb4f"/>
                </a:solidFill>
                <a:latin typeface="AGA Arabesque Desktop"/>
                <a:ea typeface="AGA Arabesque Desktop"/>
              </a:rPr>
              <a:t></a:t>
            </a:r>
            <a:r>
              <a:rPr b="0" lang="hi-IN" sz="5400" spc="-1" strike="noStrike">
                <a:solidFill>
                  <a:srgbClr val="bfcb4f"/>
                </a:solidFill>
                <a:latin typeface="AGA Arabesque Desktop"/>
                <a:cs typeface="AGA Arabesque Desktop"/>
              </a:rPr>
              <a:t>القماش</a:t>
            </a:r>
            <a:r>
              <a:rPr b="0" lang="en-US" sz="5400" spc="-1" strike="noStrike">
                <a:solidFill>
                  <a:srgbClr val="bfcb4f"/>
                </a:solidFill>
                <a:latin typeface="AGA Arabesque Desktop"/>
                <a:ea typeface="AGA Arabesque Desktop"/>
              </a:rPr>
              <a:t>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bfcb4f"/>
                </a:solidFill>
                <a:latin typeface="AGA Arabesque Desktop"/>
                <a:cs typeface="AGA Arabesque Desktop"/>
              </a:rPr>
              <a:t>من</a:t>
            </a:r>
            <a:r>
              <a:rPr b="0" lang="en-US" sz="5400" spc="-1" strike="noStrike">
                <a:solidFill>
                  <a:srgbClr val="bfcb4f"/>
                </a:solidFill>
                <a:latin typeface="AGA Arabesque Desktop"/>
                <a:ea typeface="AGA Arabesque Desktop"/>
              </a:rPr>
              <a:t></a:t>
            </a:r>
            <a:r>
              <a:rPr b="0" lang="hi-IN" sz="5400" spc="-1" strike="noStrike">
                <a:solidFill>
                  <a:srgbClr val="bfcb4f"/>
                </a:solidFill>
                <a:latin typeface="AGA Arabesque Desktop"/>
                <a:cs typeface="AGA Arabesque Desktop"/>
              </a:rPr>
              <a:t>اعداد</a:t>
            </a:r>
            <a:r>
              <a:rPr b="0" lang="en-US" sz="5400" spc="-1" strike="noStrike">
                <a:solidFill>
                  <a:srgbClr val="bfcb4f"/>
                </a:solidFill>
                <a:latin typeface="AGA Arabesque Desktop"/>
                <a:ea typeface="AGA Arabesque Desktop"/>
              </a:rPr>
              <a:t></a:t>
            </a:r>
            <a:r>
              <a:rPr b="0" lang="hi-IN" sz="5400" spc="-1" strike="noStrike">
                <a:solidFill>
                  <a:srgbClr val="bfcb4f"/>
                </a:solidFill>
                <a:latin typeface="AGA Arabesque Desktop"/>
                <a:cs typeface="AGA Arabesque Desktop"/>
              </a:rPr>
              <a:t>سدين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2843280" y="1484280"/>
            <a:ext cx="3519360" cy="3960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2843280" y="1052640"/>
            <a:ext cx="3454200" cy="4470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411280" y="1330200"/>
            <a:ext cx="4105440" cy="3988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2287440" y="981000"/>
            <a:ext cx="4637160" cy="4969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11:43:13Z</dcterms:created>
  <dc:creator>digital wave</dc:creator>
  <dc:description/>
  <dc:language>en-US</dc:language>
  <cp:lastModifiedBy>digital wave</cp:lastModifiedBy>
  <dcterms:modified xsi:type="dcterms:W3CDTF">2004-04-29T11:51:35Z</dcterms:modified>
  <cp:revision>2</cp:revision>
  <dc:subject/>
  <dc:title>الشريحة 1</dc:title>
</cp:coreProperties>
</file>