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86A-4418-47C4-A4D4-1200E684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339-5F56-4E85-B121-D58C87B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DF7-8361-48E0-B774-1CFAEA5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94B-7CC5-4AEC-BC35-DFEE204E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C07-7713-4FB5-BC92-3F6612E7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B6A-3CCE-4DEA-88C8-7641BF7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A49-F648-4C0C-B0C2-2F6ECB8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2F6C-AA4E-405D-A9E5-7239855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7103-D694-4A84-B7D4-7BD0A08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35F1-1E56-45BA-A6B0-ED31BDAD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7B6-D466-48E1-A85D-A92A260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C32-10F1-43A3-88DD-32B3ED10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AD50-0187-4377-84FF-8091FAD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ECC-3554-4856-9A59-1F830DD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C0CD-0090-43AA-B025-5BF8AC9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EB9-DC1D-48C0-A275-C9C18FB2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B285-3805-4C57-8331-94FDA1F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490-55D2-4615-B174-6A76A47D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965-EB12-456C-8A03-596E764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D9E-F5E0-4B70-88C6-1DF5626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F8D-C81E-4586-993D-99B51C1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6F8-C28A-4335-BFCD-CFEBC47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2ED-2064-4070-89B3-67EF56F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7E0-5295-46CF-AA9C-AE4EEC2A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B4B-4FFC-491A-803D-E43EEFB930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2D1-7845-43E1-A7C0-E3581D60FBB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2060640"/>
            <a:ext cx="54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نماذج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رسم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على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قماش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من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عداد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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سد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19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454200" cy="44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411280" y="1330200"/>
            <a:ext cx="410544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7440" y="981000"/>
            <a:ext cx="463716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43:13Z</dcterms:created>
  <dc:creator>digital wave</dc:creator>
  <dc:description/>
  <dc:language>en-US</dc:language>
  <cp:lastModifiedBy>digital wave</cp:lastModifiedBy>
  <dcterms:modified xsi:type="dcterms:W3CDTF">2004-04-29T11:51:35Z</dcterms:modified>
  <cp:revision>2</cp:revision>
  <dc:subject/>
  <dc:title>الشريحة 1</dc:title>
</cp:coreProperties>
</file>