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C7BF5-632D-4647-9237-5D4B36211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9A0A6-5970-49EF-ABC6-6E3939F9A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8FDA8-144B-4A64-92F0-1C14D4EE4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2CFA5-1C0D-45C0-957A-31533F765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4AF4E-7B19-48EA-9CC5-AC9867885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066A2-4835-4952-85BA-52E2E1D44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8B436-6336-41FC-820F-1C4D39316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F5D1E-0648-4909-BC3D-B662B80F2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B6265-7859-43CA-8EFD-F4B5368E3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592F2-57A3-4084-8DE6-89BBACA25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E2866-DDF2-4474-A365-F8B5529AB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D42CA-2798-49A5-9C08-A26236847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9D879-2F72-430F-94B6-0C662F0E4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7E8F1-D758-4EDF-A37A-2A1A8CF39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FDEE7-9B08-4600-8EA9-5C3F99644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9F48E-95C8-42E4-A5A2-9828F8930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1590A-B1AA-44BC-9DB8-85E16BEF5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D636D-31AC-4653-8C7E-1A7FD6BAF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E1E46-2E40-4993-B221-8519338A3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55E71-0F0D-43EB-97A4-F74CE2D74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6BEE8-3D73-4428-A4FB-507A79033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A1D99-9E10-4DFC-AA05-FCF8E1A0B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E072C-C0E8-4C73-B4A8-0B3D351C1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82146-2DDF-45FF-955B-C7E0BB1E8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D3F2D-206A-4A15-8190-1B683573444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C66D7-D756-4AC9-A98A-E9D34B89D70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755640" y="2060640"/>
            <a:ext cx="77040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0" lang="ar-SA" sz="2400" spc="-1" strike="noStrike" u="sng">
                <a:solidFill>
                  <a:srgbClr val="336600"/>
                </a:solidFill>
                <a:uFillTx/>
                <a:latin typeface="Arial"/>
              </a:rPr>
              <a:t>الهدف الفني</a:t>
            </a:r>
            <a:r>
              <a:rPr b="0" lang="ar-SA" sz="2400" spc="-1" strike="noStrike" u="sng">
                <a:solidFill>
                  <a:srgbClr val="336600"/>
                </a:solidFill>
                <a:uFillTx/>
                <a:latin typeface="Arial"/>
              </a:rPr>
              <a:t>:</a:t>
            </a:r>
            <a:r>
              <a:rPr b="0" lang="ar-SA" sz="24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إن تستخدم الطالبة الحروف العربية مصادرا زخرفي  للفن الابروا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0099"/>
                </a:solidFill>
                <a:uFillTx/>
                <a:latin typeface="Arial"/>
              </a:rPr>
              <a:t>الأهداف الإجرائية السلوكية</a:t>
            </a:r>
            <a:r>
              <a:rPr b="0" lang="ar-SA" sz="2400" spc="-1" strike="noStrike" u="sng">
                <a:solidFill>
                  <a:srgbClr val="cc0099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أن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تعدد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طالبة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أشكال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زخرفة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اسلاميه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عناصرها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أولية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أن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تستنتج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طالبة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قواعد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فن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زخرفة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أن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ترسم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طالبة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زخرفة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إسلامية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هندسية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مع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مراعاة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إيقاع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والاتزان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في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عم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أن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تحافظ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طالبة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على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نظافة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أثناء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رسم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قال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تعالى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:(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وثيابك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فطهر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336600"/>
                </a:solidFill>
                <a:uFillTx/>
                <a:latin typeface="Arial"/>
              </a:rPr>
              <a:t>الأدوات – الخامات</a:t>
            </a:r>
            <a:r>
              <a:rPr b="0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كراسة رسم – قلم رصاص – هندس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3042720" y="749160"/>
            <a:ext cx="2698920" cy="9666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66ccff"/>
              </a:gs>
            </a:gsLst>
            <a:lin ang="8100000"/>
          </a:gradFill>
          <a:ln w="28440">
            <a:solidFill>
              <a:srgbClr val="000000"/>
            </a:solidFill>
            <a:miter/>
          </a:ln>
        </p:spPr>
        <p:txBody>
          <a:bodyPr anchor="b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660066"/>
                </a:solidFill>
                <a:uFillTx/>
                <a:latin typeface="Arial"/>
              </a:rPr>
              <a:t>الموضوع:- تكوين زخارف إسلامية</a:t>
            </a:r>
            <a:r>
              <a:rPr b="0" lang="ar-SA" sz="1800" spc="-1" strike="noStrike">
                <a:solidFill>
                  <a:srgbClr val="660066"/>
                </a:solidFill>
                <a:latin typeface="Arial"/>
              </a:rPr>
              <a:t>  (بحرف عربي)</a:t>
            </a:r>
            <a:endParaRPr b="0" lang="en-US" sz="18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9" dur="20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2ec6bf"/>
                </a:solidFill>
                <a:uFillTx/>
                <a:latin typeface="Arial"/>
                <a:cs typeface="Arabic Transparent"/>
              </a:rPr>
              <a:t>الوسائل التعليمية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abic Transparent"/>
              </a:rPr>
              <a:t>صور الزخارف الإسلامية من بعض الكتب والمراجع -  وسيلة مساعده ( رسامات الطالبات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a8a220"/>
                </a:solidFill>
                <a:latin typeface="Arial"/>
                <a:cs typeface="Arabic Transparent"/>
              </a:rPr>
              <a:t>سير الدرس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abic Transparent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003399"/>
                </a:solidFill>
                <a:uFillTx/>
                <a:latin typeface="Arial"/>
                <a:cs typeface="Arabic Transparent"/>
              </a:rPr>
              <a:t>المقدمة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ن الزخرفة تعتبر من أهم الفنون التشكيلية وأعظمها أثر في اكتساب معظم المنتجات الحرفية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abic Transparent"/>
              </a:rPr>
              <a:t> ولقد دعا الدين الإسلامي إلى التأمل والتبصير ودعوته إلى التعاون وفتح العرب المسلمين أفاق عديدة فانصرفوا  يؤسسون ويبدعون وقد أبدع الفنان المسلم في فنون العمارة وكان لها أسلوبان وهما الزخرفة – التجريد.ومنها اليوم درسنا عن الزخرفة الإسلامي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d60093"/>
                </a:solidFill>
                <a:uFillTx/>
                <a:latin typeface="Arial"/>
                <a:cs typeface="Arabic Transparent"/>
              </a:rPr>
              <a:t>عرض الدرس</a:t>
            </a:r>
            <a:r>
              <a:rPr b="0" lang="ar-SA" sz="2000" spc="-1" strike="noStrike" u="sng">
                <a:solidFill>
                  <a:srgbClr val="000000"/>
                </a:solidFill>
                <a:uFillTx/>
                <a:latin typeface="Arial"/>
                <a:ea typeface="Arabic Transparent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عرض على الطالبات أنواع الزخارف الإسلامية وهي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abic Transparent"/>
              </a:rPr>
              <a:t>زخارف نباتية- زخارف حيوانية. - زخارف هندسية - زخارف كتابية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abic Transparent"/>
              </a:rPr>
              <a:t>إذا   هناك سمات الزخارف الإسلامية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abic Transparent"/>
              </a:rPr>
              <a:t>كراهية الفراغ.- سطحية الزخارف.- البعد عن الطبيعة. - التكرار.- المسحة الهندسية وغيرها.- تحويل الغث  إلى ثمين. - البعد عن الكائنات الحية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abic Transparent"/>
              </a:rPr>
              <a:t>وقد استخدمت هذه في كافة المجالات مثل الأنسجة – السجاد التكفيب بالذهب والفضة والحفر على الخشب والحجر والرخام واستخدمت أرضيات للكتابة في الأفاريز وغيرها ونجد أن عناصر الأولية للزخرفة هي: الخط – النقطة – الكلمة الحرف وغيرها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abic Transparent"/>
              </a:rPr>
              <a:t>فإن هناك قواعد للعمل الفني للزخرفة وهي كالآتي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توازن – التناظر – التشعب – التكرار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98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98" fill="hold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98" fill="hold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898" fill="hold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898" fill="hold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898" fill="hold"/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898" fill="hold"/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5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898" fill="hold"/>
                                        <p:tgtEl>
                                          <p:spTgt spid="5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5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98" fill="hold"/>
                                        <p:tgtEl>
                                          <p:spTgt spid="5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5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98" fill="hold"/>
                                        <p:tgtEl>
                                          <p:spTgt spid="5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5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98" fill="hold"/>
                                        <p:tgtEl>
                                          <p:spTgt spid="5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5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898" fill="hold"/>
                                        <p:tgtEl>
                                          <p:spTgt spid="5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5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5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898" fill="hold"/>
                                        <p:tgtEl>
                                          <p:spTgt spid="5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5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898" fill="hold"/>
                                        <p:tgtEl>
                                          <p:spTgt spid="5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250560" y="549000"/>
            <a:ext cx="856908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تواز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: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ويقص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ب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توزي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عناص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ووحدات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وألوا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عم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فن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بطريق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متكامل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ومتناسق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داخ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عم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فن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لتناظ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نوعا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: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نصف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وه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م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يكو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تصمي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متساويا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ف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تشطري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يكم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ك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متهم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آخ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ويرتب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مع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وحدات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وتخطيط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لايمك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تجزئته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حت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ل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تظه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متفكك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إم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تناظ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كل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: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وه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م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يكو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تصمي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م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وحدات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تقاب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بعضه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بعض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ول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تكمله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تشع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: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ه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نبثا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خطو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ف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وحد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م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نقط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إل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خار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وه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ينقس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إل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تشع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م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نقط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. -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تشع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م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خ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تكرا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: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وه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يجم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بي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عناص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كثير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م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عناص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زخرفي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ف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أوضا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مختلف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ولك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منه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نظا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خا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مختل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ع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آخ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وتتنو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  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كالآت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: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تكرا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عاد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. -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تكرا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متباد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.-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تكرا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متساق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-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تكرا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عكس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.-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تكرا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مائ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والمنحن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والدائر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. -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تكرا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أفق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والرأس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 u="sng">
                <a:solidFill>
                  <a:srgbClr val="a50021"/>
                </a:solidFill>
                <a:uFillTx/>
                <a:latin typeface="Arial"/>
              </a:rPr>
              <a:t>التطبيق</a:t>
            </a:r>
            <a:r>
              <a:rPr b="0" lang="en-US" sz="2800" spc="-1" strike="noStrike" u="sng">
                <a:solidFill>
                  <a:srgbClr val="a50021"/>
                </a:solidFill>
                <a:uFillTx/>
                <a:latin typeface="Arial"/>
                <a:ea typeface="Browallia New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أ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تقو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ك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طالب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برس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وحدات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زخرف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إسلامي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باستخدا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حر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عرب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بحيث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تشم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آت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أ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تراع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قواع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عم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فن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للزخرف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أ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تختا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تناظ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حديهم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وتكر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ح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سابق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ذك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أ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تراع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دق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والنظاف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ف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عم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فن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إل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زخرف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5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5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5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91520" cy="55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-228600" algn="r" rtl="1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360c33"/>
                </a:solidFill>
                <a:latin typeface="Arial"/>
                <a:cs typeface="Andalus"/>
              </a:rPr>
              <a:t>مع تحيات نير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6T20:41:52Z</dcterms:created>
  <dc:creator>digital wave</dc:creator>
  <dc:description/>
  <dc:language>en-US</dc:language>
  <cp:lastModifiedBy>digital wave</cp:lastModifiedBy>
  <dcterms:modified xsi:type="dcterms:W3CDTF">2004-02-16T21:43:23Z</dcterms:modified>
  <cp:revision>3</cp:revision>
  <dc:subject/>
  <dc:title>الموضوع:- تكوين زخارف إسلامية  (بحرف عربي)</dc:title>
</cp:coreProperties>
</file>