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C8AD-EFD5-451D-8A51-66AE3A81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3280-B9D4-4318-AA11-BF64868A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6D2B7-4C8E-4541-9CA2-3EE7AE40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334B-928D-4338-9321-DAADE2FD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45B1-9B5D-4455-9C9C-DC216949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7F2E-FF5C-4006-A6BF-174EF3F5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ED5F-0C38-4760-B347-7B17C826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127A-745A-4F4C-B351-4D385F2A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15E1-81BC-46F3-8274-1976DB6F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EAD1-61FC-444A-88C0-48E714E4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6FAC-44F2-48AE-9E86-051F4C5F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9AA50-3750-431D-BD48-7507CED0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CFC0-FC9A-4C6A-A054-9BD5B072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7691-DCE6-4627-AFC2-199742CE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6D6F-7336-43B9-BD46-1BAE89B0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6D4A-53E4-4E8B-814E-76B85F0F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FF26-ACA6-4125-A1C5-4B4B9345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A3D9-F2B3-4347-99FE-0F4BAAE2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E58F-E21B-4CBF-BF09-0FB4B0A9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C63D-C0B1-4ECF-950E-D9B2B007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59DB-538E-469C-A95C-98A2373D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DD3E-8659-4830-B29C-93907493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E33B9-39EA-440A-95CD-73C31322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72A3-2A1C-48AA-BE24-1012EE15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6EDC-0510-4C27-B1FB-3C8416638F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AB4F-55CE-4972-9334-3919D7BA77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755640" y="2060640"/>
            <a:ext cx="7704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336600"/>
                </a:solidFill>
                <a:uFillTx/>
                <a:latin typeface="Arial"/>
              </a:rPr>
              <a:t>الهدف الفني</a:t>
            </a:r>
            <a:r>
              <a:rPr b="0" lang="ar-SA" sz="2400" spc="-1" strike="noStrike" u="sng">
                <a:solidFill>
                  <a:srgbClr val="336600"/>
                </a:solidFill>
                <a:uFillTx/>
                <a:latin typeface="Arial"/>
              </a:rPr>
              <a:t>:</a:t>
            </a:r>
            <a:r>
              <a:rPr b="0" lang="ar-SA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إن تستخدم الطالبة الحروف العربية مصادرا زخرفي  للفن الابرو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0099"/>
                </a:solidFill>
                <a:uFillTx/>
                <a:latin typeface="Arial"/>
              </a:rPr>
              <a:t>الأهداف الإجرائية السلوكية</a:t>
            </a:r>
            <a:r>
              <a:rPr b="0" lang="ar-SA" sz="2400" spc="-1" strike="noStrike" u="sng">
                <a:solidFill>
                  <a:srgbClr val="cc0099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عد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الب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شكال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زخرف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اسلاميه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ناصرها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أول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ستنتج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الب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واع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زخرف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رسم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الب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زخرف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إسلام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ندسي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ع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راعا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إيقاع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الاتزا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عم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افظ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الب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لى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نظاف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ثناء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رسم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ال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عالى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: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ثيابك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طهر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rowalliaUP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336600"/>
                </a:solidFill>
                <a:uFillTx/>
                <a:latin typeface="Arial"/>
              </a:rPr>
              <a:t>الأدوات – الخامات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كراسة رسم – قلم رصاص – هندس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42720" y="749160"/>
            <a:ext cx="2698920" cy="966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ccff"/>
              </a:gs>
            </a:gsLst>
            <a:lin ang="8100000"/>
          </a:gradFill>
          <a:ln w="28440">
            <a:solidFill>
              <a:srgbClr val="000000"/>
            </a:solidFill>
            <a:miter/>
          </a:ln>
        </p:spPr>
        <p:txBody>
          <a:bodyPr anchor="b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660066"/>
                </a:solidFill>
                <a:uFillTx/>
                <a:latin typeface="Arial"/>
              </a:rPr>
              <a:t>الموضوع:- تكوين زخارف إسلامية</a:t>
            </a:r>
            <a:r>
              <a:rPr b="0" lang="ar-SA" sz="1800" spc="-1" strike="noStrike">
                <a:solidFill>
                  <a:srgbClr val="660066"/>
                </a:solidFill>
                <a:latin typeface="Arial"/>
              </a:rPr>
              <a:t>  (بحرف عربي)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2ec6bf"/>
                </a:solidFill>
                <a:uFillTx/>
                <a:latin typeface="Arial"/>
                <a:cs typeface="Arabic Transparent"/>
              </a:rPr>
              <a:t>الوسائل التعليم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ور الزخارف الإسلامية من بعض الكتب والمراجع -  وسيلة مساعده ( رسامات الطالبات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a8a220"/>
                </a:solidFill>
                <a:latin typeface="Arial"/>
                <a:cs typeface="Arabic Transparent"/>
              </a:rPr>
              <a:t>سير الدرس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3399"/>
                </a:solidFill>
                <a:uFillTx/>
                <a:latin typeface="Arial"/>
                <a:cs typeface="Arabic Transparent"/>
              </a:rPr>
              <a:t>المقدم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ن الزخرفة تعتبر من أهم الفنون التشكيلية وأعظمها أثر في اكتساب معظم المنتجات الحرف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لقد دعا الدين الإسلامي إلى التأمل والتبصير ودعوته إلى التعاون وفتح العرب المسلمين أفاق عديدة فانصرفوا  يؤسسون ويبدعون وقد أبدع الفنان المسلم في فنون العمارة وكان لها أسلوبان وهما الزخرفة – التجريد.ومنها اليوم درسنا عن الزخرفة الإسلام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d60093"/>
                </a:solidFill>
                <a:uFillTx/>
                <a:latin typeface="Arial"/>
                <a:cs typeface="Arabic Transparent"/>
              </a:rPr>
              <a:t>عرض الدرس</a:t>
            </a:r>
            <a:r>
              <a:rPr b="0" lang="ar-SA" sz="2000" spc="-1" strike="noStrike" u="sng">
                <a:solidFill>
                  <a:srgbClr val="000000"/>
                </a:solidFill>
                <a:uFillTx/>
                <a:latin typeface="Arial"/>
                <a:ea typeface="Arabic Transparent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عرض على الطالبات أنواع الزخارف الإسلامية وهي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زخارف نباتية- زخارف حيوانية. - زخارف هندسية - زخارف كتاب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  هناك سمات الزخارف الإسلام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راهية الفراغ.- سطحية الزخارف.- البعد عن الطبيعة. - التكرار.- المسحة الهندسية وغيرها.- تحويل الغث  إلى ثمين. - البعد عن الكائنات الح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قد استخدمت هذه في كافة المجالات مثل الأنسجة – السجاد التكفيب بالذهب والفضة والحفر على الخشب والحجر والرخام واستخدمت أرضيات للكتابة في الأفاريز وغيرها ونجد أن عناصر الأولية للزخرفة هي: الخط – النقطة – الكلمة الحرف وغير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إن هناك قواعد للعمل الفني للزخرفة وهي كالآتي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توازن – التناظر – التشعب – التكرا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8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98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8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8" fill="hold"/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98" fill="hold"/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56908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واز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يقص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وزي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عناص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وحدا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ألوا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ف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طريق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تكامل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متناسق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داخ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ف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لتناظ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وعا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ص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كو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صمي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تساويا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شطري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ك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ك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ته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آخ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يرتب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ع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حدا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تخطيط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لايمك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جزئته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حت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ظه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تفكك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ناظ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كل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كو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صمي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حدا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قاب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عضه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بع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ل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كمله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شع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نبثا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خطو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وحد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قط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خار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نقس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شع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قط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 -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شع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خ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ه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يجم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ي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عناص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كثي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ناص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زخرف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وضا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ختلف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لك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نه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نظا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خا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مختل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ع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آخ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تتنو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  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كالآت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اد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 -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متباد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-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متساق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-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كس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-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مائ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المنح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الدائر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 -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كر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أفق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الرأس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 u="sng">
                <a:solidFill>
                  <a:srgbClr val="a50021"/>
                </a:solidFill>
                <a:uFillTx/>
                <a:latin typeface="Arial"/>
              </a:rPr>
              <a:t>التطبيق</a:t>
            </a:r>
            <a:r>
              <a:rPr b="0" lang="en-US" sz="2800" spc="-1" strike="noStrike" u="sng">
                <a:solidFill>
                  <a:srgbClr val="a50021"/>
                </a:solidFill>
                <a:uFillTx/>
                <a:latin typeface="Arial"/>
                <a:ea typeface="Browallia Ne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قو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ك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طالب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رس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حدا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زخر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سلام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استخدا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حر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عرب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بحي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ش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آت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راع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قواع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ف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للزخرف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ختا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تناظ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حديهم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تكر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ح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سابق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ذك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أ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تراع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دق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النظاف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م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فن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إل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 </a:t>
            </a: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زخرف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rowallia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9152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360c33"/>
                </a:solidFill>
                <a:latin typeface="Arial"/>
                <a:cs typeface="Andalus"/>
              </a:rPr>
              <a:t>مع تحيات نير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20:41:52Z</dcterms:created>
  <dc:creator>digital wave</dc:creator>
  <dc:description/>
  <dc:language>en-US</dc:language>
  <cp:lastModifiedBy>digital wave</cp:lastModifiedBy>
  <dcterms:modified xsi:type="dcterms:W3CDTF">2004-02-16T21:43:23Z</dcterms:modified>
  <cp:revision>3</cp:revision>
  <dc:subject/>
  <dc:title>الموضوع:- تكوين زخارف إسلامية  (بحرف عربي)</dc:title>
</cp:coreProperties>
</file>