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699A-3D88-43DE-B101-90FA6465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D762-18A9-4701-BB0F-8254003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B617-C9D1-461E-82A7-311B9B14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9362-9B00-49B5-A13B-E5D65295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6F5B-948B-404B-8A04-93D3529A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DCDC-5BEB-4499-B457-7D73703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7921-F7B7-4F88-949D-5AF2C188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C50E-5696-4269-AADB-92C90A09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331F-63B4-4363-A493-44772787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C7C-25B0-486E-91CF-466C6F1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D40-16A4-4A49-A846-BEAE107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F5EB-EC59-499C-A73F-89F938CE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7B9-BE7A-41E2-AEDF-63F6B27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128C-765E-41D7-8FD7-BA73998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FFD6-BF99-481D-8D5A-7296ECE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C7FF-D4B4-4909-A309-6D504CC7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53E6-E8FA-4C86-A48C-60E333D5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9A88-DB7D-474D-81C6-6041B95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E9B0-0A56-431E-88D7-FA97BED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FD4F-4763-4FD3-A8A0-83B6A7B5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7B5F-C271-4436-8CA6-751F87CD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8F32-16EE-4500-BB2F-A8B4D40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30F1-3785-4998-B577-EF23A9F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7CDD-0828-4111-AF6B-256A6B9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B422-5FAB-4BB0-B183-95599BED2B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8728-B134-4B3A-9FDB-5D5006B24E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هدف الفني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ن تستخدم الطالبة الحروف العربية مصادرا زخرفي  للفن الابرو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الأهداف الإجرائية السلوكية</a:t>
            </a: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د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شك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سلامي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اصر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و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نت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دس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راعا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يق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اتز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ظا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ثناء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: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ثيابك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طه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أدوات – الخامات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راسة رسم – قلم رصاص – هند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2720" y="749160"/>
            <a:ext cx="2698920" cy="96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cc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txBody>
          <a:bodyPr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660066"/>
                </a:solidFill>
                <a:uFillTx/>
                <a:latin typeface="Arial"/>
              </a:rPr>
              <a:t>الموضوع:- تكوين زخارف إسلامية</a:t>
            </a:r>
            <a:r>
              <a:rPr b="0" lang="ar-SA" sz="1800" spc="-1" strike="noStrike">
                <a:solidFill>
                  <a:srgbClr val="660066"/>
                </a:solidFill>
                <a:latin typeface="Arial"/>
              </a:rPr>
              <a:t>  (بحرف عربي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2ec6bf"/>
                </a:solidFill>
                <a:uFillTx/>
                <a:latin typeface="Arial"/>
                <a:cs typeface="Arabic Transparent"/>
              </a:rPr>
              <a:t>الوسائل التعلي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ور الزخارف الإسلامية من بعض الكتب والمراجع -  وسيلة مساعده ( رسامات الطالبات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8a220"/>
                </a:solidFill>
                <a:latin typeface="Arial"/>
                <a:cs typeface="Arabic Transparent"/>
              </a:rPr>
              <a:t>سير الدر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3399"/>
                </a:solidFill>
                <a:uFillTx/>
                <a:latin typeface="Arial"/>
                <a:cs typeface="Arabic Transparent"/>
              </a:rPr>
              <a:t>المقدم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 الزخرفة تعتبر من أهم الفنون التشكيلية وأعظمها أثر في اكتساب معظم المنتجات الحرف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لقد دعا الدين الإسلامي إلى التأمل والتبصير ودعوته إلى التعاون وفتح العرب المسلمين أفاق عديدة فانصرفوا  يؤسسون ويبدعون وقد أبدع الفنان المسلم في فنون العمارة وكان لها أسلوبان وهما الزخرفة – التجريد.ومنها اليوم درسنا عن الزخرفة الإسلا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d60093"/>
                </a:solidFill>
                <a:uFillTx/>
                <a:latin typeface="Arial"/>
                <a:cs typeface="Arabic Transparent"/>
              </a:rPr>
              <a:t>عرض الدرس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عرض على الطالبات أنواع الزخارف الإسلامية وه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زخارف نباتية- زخارف حيوانية. - زخارف هندسية - زخارف كتاب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  هناك سمات الزخارف الإسلا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راهية الفراغ.- سطحية الزخارف.- البعد عن الطبيعة. - التكرار.- المسحة الهندسية وغيرها.- تحويل الغث  إلى ثمين. - البعد عن الكائنات الح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قد استخدمت هذه في كافة المجالات مثل الأنسجة – السجاد التكفيب بالذهب والفضة والحفر على الخشب والحجر والرخام واستخدمت أرضيات للكتابة في الأفاريز وغيرها ونجد أن عناصر الأولية للزخرفة هي: الخط – النقطة – الكلمة الحرف وغير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إن هناك قواعد للعمل الفني للزخرفة وهي كالآت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وازن – التناظر – التشعب – التكر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56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واز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قص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وزي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ألو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طري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كامل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متناس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داخ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وع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ص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ساوي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طري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رتب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ع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خطيط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يمك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جزئت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ت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ظه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فكك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كل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اب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عض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بع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كمل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نبثا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طو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وحد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ار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نق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جم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ثي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وضا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ظ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ا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تنو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  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اد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باد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ساق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ك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ائ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منح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دائر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أفق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رأ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a50021"/>
                </a:solidFill>
                <a:uFillTx/>
                <a:latin typeface="Arial"/>
              </a:rPr>
              <a:t>التطبيق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Arial"/>
                <a:ea typeface="Browall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و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طالب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ر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زخر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استخد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ر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رب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حي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خت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ي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كر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ساب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ذك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د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نظا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60c33"/>
                </a:solidFill>
                <a:latin typeface="Arial"/>
                <a:cs typeface="Andalus"/>
              </a:rPr>
              <a:t>مع تحيات ني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41:52Z</dcterms:created>
  <dc:creator>digital wave</dc:creator>
  <dc:description/>
  <dc:language>en-US</dc:language>
  <cp:lastModifiedBy>digital wave</cp:lastModifiedBy>
  <dcterms:modified xsi:type="dcterms:W3CDTF">2004-02-16T21:43:23Z</dcterms:modified>
  <cp:revision>3</cp:revision>
  <dc:subject/>
  <dc:title>الموضوع:- تكوين زخارف إسلامية  (بحرف عربي)</dc:title>
</cp:coreProperties>
</file>