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A48D-1628-4B6B-813C-1CB04573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7516-4AB1-443F-88E2-C66A5FFF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DE7F-C378-4DAC-849E-3F79B8DD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A218-2D0E-48FC-822D-E76DE2BB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CDD0-FFEB-4C96-B0FC-2F9E918A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71AB-348F-42A1-8E38-C2CA0CA7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0BFD-A922-493B-9AB4-880FF3AC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920C-0D0A-45BF-88F0-97EB3DA0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68B5-AD3A-4919-BBF4-8F82646B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B09B-8DD7-4BF0-81AF-527272FF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48FA-37E4-4C82-B5A1-10B37C5B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4AD2-9291-455A-926B-C05FDC2F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F2B4-2102-44D0-9455-C64B914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B458-9F38-4512-B183-75356FB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0C50-E897-474E-9A6D-C4E7E737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8B2E-5A61-4703-A2DF-36DE7495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B2A8-2EA7-44C7-B3A9-517CF003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2F91-39F1-4F00-AF0A-A8394BCB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91DC-E0AB-43A1-94C0-FD1F21DD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925D-F8F2-46AE-A085-1011CBF3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52DF-148F-4C1C-8DB3-F16A5CDA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8653-46FF-4B7B-9983-87C9FAE2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001B-127F-46CE-92FD-704F65EF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A298-F060-49D9-98CD-F82F09B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C52C-D7B7-413C-BB1F-B23C1ADA6D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B8C7-E195-46E1-B2EC-1A2D4E5A4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755640" y="2060640"/>
            <a:ext cx="770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الهدف الفني</a:t>
            </a: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:</a:t>
            </a:r>
            <a:r>
              <a:rPr b="0" lang="ar-SA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ن تستخدم الطالبة الحروف العربية مصادرا زخرفي  للفن الابرو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0099"/>
                </a:solidFill>
                <a:uFillTx/>
                <a:latin typeface="Arial"/>
              </a:rPr>
              <a:t>الأهداف الإجرائية السلوكية</a:t>
            </a:r>
            <a:r>
              <a:rPr b="0" lang="ar-SA" sz="2400" spc="-1" strike="noStrike" u="sng">
                <a:solidFill>
                  <a:srgbClr val="cc00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د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شكا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اسلامي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ناصر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أول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نتج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واع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رس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سلام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دس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راعا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إيقا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اتزا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عم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ى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ظا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ثناء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رس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ا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الى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: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ثيابك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طه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الأدوات – الخامات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راسة رسم – قلم رصاص – هندس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2720" y="749160"/>
            <a:ext cx="2698920" cy="966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ccff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txBody>
          <a:bodyPr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660066"/>
                </a:solidFill>
                <a:uFillTx/>
                <a:latin typeface="Arial"/>
              </a:rPr>
              <a:t>الموضوع:- تكوين زخارف إسلامية</a:t>
            </a:r>
            <a:r>
              <a:rPr b="0" lang="ar-SA" sz="1800" spc="-1" strike="noStrike">
                <a:solidFill>
                  <a:srgbClr val="660066"/>
                </a:solidFill>
                <a:latin typeface="Arial"/>
              </a:rPr>
              <a:t>  (بحرف عربي)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2ec6bf"/>
                </a:solidFill>
                <a:uFillTx/>
                <a:latin typeface="Arial"/>
                <a:cs typeface="Arabic Transparent"/>
              </a:rPr>
              <a:t>الوسائل التعليم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ور الزخارف الإسلامية من بعض الكتب والمراجع -  وسيلة مساعده ( رسامات الطالبات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8a220"/>
                </a:solidFill>
                <a:latin typeface="Arial"/>
                <a:cs typeface="Arabic Transparent"/>
              </a:rPr>
              <a:t>سير الدرس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3399"/>
                </a:solidFill>
                <a:uFillTx/>
                <a:latin typeface="Arial"/>
                <a:cs typeface="Arabic Transparent"/>
              </a:rPr>
              <a:t>المقدم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ن الزخرفة تعتبر من أهم الفنون التشكيلية وأعظمها أثر في اكتساب معظم المنتجات الحرف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لقد دعا الدين الإسلامي إلى التأمل والتبصير ودعوته إلى التعاون وفتح العرب المسلمين أفاق عديدة فانصرفوا  يؤسسون ويبدعون وقد أبدع الفنان المسلم في فنون العمارة وكان لها أسلوبان وهما الزخرفة – التجريد.ومنها اليوم درسنا عن الزخرفة الإسلام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d60093"/>
                </a:solidFill>
                <a:uFillTx/>
                <a:latin typeface="Arial"/>
                <a:cs typeface="Arabic Transparent"/>
              </a:rPr>
              <a:t>عرض الدرس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عرض على الطالبات أنواع الزخارف الإسلامية وه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زخارف نباتية- زخارف حيوانية. - زخارف هندسية - زخارف كتاب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  هناك سمات الزخارف الإسلام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راهية الفراغ.- سطحية الزخارف.- البعد عن الطبيعة. - التكرار.- المسحة الهندسية وغيرها.- تحويل الغث  إلى ثمين. - البعد عن الكائنات الح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قد استخدمت هذه في كافة المجالات مثل الأنسجة – السجاد التكفيب بالذهب والفضة والحفر على الخشب والحجر والرخام واستخدمت أرضيات للكتابة في الأفاريز وغيرها ونجد أن عناصر الأولية للزخرفة هي: الخط – النقطة – الكلمة الحرف وغير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إن هناك قواعد للعمل الفني للزخرفة وهي كالآت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توازن – التناظر – التشعب – التكر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5690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واز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يقص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وزي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ألوا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طري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كامل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متناس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داخ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وعا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ص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صمي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ساويا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طري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ه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خ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يرتب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ع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خطيط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ايمك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جزئت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حت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ظه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فكك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كل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صمي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قاب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عض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بع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ل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كمل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نبثا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خطو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وحد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قط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خار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نقس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قط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خ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جم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ي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ثي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زخرف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وضا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ختل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ل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ظ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خا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ختل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خ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تنو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  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الآت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اد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تباد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-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تساق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كس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ائ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منح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دائر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أفق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رأس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a50021"/>
                </a:solidFill>
                <a:uFillTx/>
                <a:latin typeface="Arial"/>
              </a:rPr>
              <a:t>التطبيق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Arial"/>
                <a:ea typeface="Browallia Ne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قو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طالب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رس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زخر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سلام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استخد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حر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رب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حي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ت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راع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قواع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لزخر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خت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حديه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كر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ح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ساب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ذك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راع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د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نظا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91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60c33"/>
                </a:solidFill>
                <a:latin typeface="Arial"/>
                <a:cs typeface="Andalus"/>
              </a:rPr>
              <a:t>مع تحيات ني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20:41:52Z</dcterms:created>
  <dc:creator>digital wave</dc:creator>
  <dc:description/>
  <dc:language>en-US</dc:language>
  <cp:lastModifiedBy>digital wave</cp:lastModifiedBy>
  <dcterms:modified xsi:type="dcterms:W3CDTF">2004-02-16T21:43:23Z</dcterms:modified>
  <cp:revision>3</cp:revision>
  <dc:subject/>
  <dc:title>الموضوع:- تكوين زخارف إسلامية  (بحرف عربي)</dc:title>
</cp:coreProperties>
</file>