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2179-845E-470E-8A2F-00E7E217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65B2-2F5E-44D4-85E4-238E9233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90F7-51CC-4CA3-876E-2E51165D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8039-B393-4B5B-91CC-81FBD6EF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086F-63CF-4467-88B4-6FFB37A6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1272-7816-47A1-8F37-84A4D727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6839-CB1F-45A4-A7F7-D8D9AD13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E2D2-D19F-4D0D-8533-A7D8C8CF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B470-9DB7-4281-A656-43F712C9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CE5C-D5C8-42B3-B1E5-7169781C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0FAB-C7B0-40BA-97FE-32376600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1670-4F0B-468E-8B8F-420C03F9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676E-DB69-41A1-A4EA-397A0FE6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FF52-00C9-4C04-B31D-BB5FF092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985E-939B-4380-BDF5-CF3A7B0A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FD6D-53E2-4DBE-9FBE-3253398A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C466-91F3-4192-8776-EAC363DF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3311-23C9-411B-8FFC-DFFB8533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6DEA-D767-4862-9E1B-DF73AE52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5052-A146-45EB-BEDE-69E7D0AD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D17E-E31E-4B0C-881F-5021347F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D824-DA23-4FE7-821C-3914E72F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A104-178E-4979-8B3E-43DC4993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3DA0-8033-4F68-B0BE-AD82491D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DC84-99FC-4CB5-B2C9-F0F3BB42A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A5B4-CB5F-47FE-A5EB-033028F60F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755640" y="2060640"/>
            <a:ext cx="770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الهدف الفني</a:t>
            </a: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:</a:t>
            </a:r>
            <a:r>
              <a:rPr b="0" lang="ar-SA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ن تستخدم الطالبة الحروف العربية مصادرا زخرفي  للفن الابرو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0099"/>
                </a:solidFill>
                <a:uFillTx/>
                <a:latin typeface="Arial"/>
              </a:rPr>
              <a:t>الأهداف الإجرائية السلوكية</a:t>
            </a:r>
            <a:r>
              <a:rPr b="0" lang="ar-SA" sz="2400" spc="-1" strike="noStrike" u="sng">
                <a:solidFill>
                  <a:srgbClr val="cc00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د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شكا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اسلامي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ناصر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أول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نتج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واع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رس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سلام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دس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راعا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إيقا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اتزا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عم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ى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ظا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ثناء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رس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ا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الى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: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ثيابك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طهر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الأدوات – الخامات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راسة رسم – قلم رصاص – هندس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2720" y="749160"/>
            <a:ext cx="2698920" cy="966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ccff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txBody>
          <a:bodyPr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660066"/>
                </a:solidFill>
                <a:uFillTx/>
                <a:latin typeface="Arial"/>
              </a:rPr>
              <a:t>الموضوع:- تكوين زخارف إسلامية</a:t>
            </a:r>
            <a:r>
              <a:rPr b="0" lang="ar-SA" sz="1800" spc="-1" strike="noStrike">
                <a:solidFill>
                  <a:srgbClr val="660066"/>
                </a:solidFill>
                <a:latin typeface="Arial"/>
              </a:rPr>
              <a:t>  (بحرف عربي)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2ec6bf"/>
                </a:solidFill>
                <a:uFillTx/>
                <a:latin typeface="Arial"/>
                <a:cs typeface="Arabic Transparent"/>
              </a:rPr>
              <a:t>الوسائل التعليم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ور الزخارف الإسلامية من بعض الكتب والمراجع -  وسيلة مساعده ( رسامات الطالبات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8a220"/>
                </a:solidFill>
                <a:latin typeface="Arial"/>
                <a:cs typeface="Arabic Transparent"/>
              </a:rPr>
              <a:t>سير الدرس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3399"/>
                </a:solidFill>
                <a:uFillTx/>
                <a:latin typeface="Arial"/>
                <a:cs typeface="Arabic Transparent"/>
              </a:rPr>
              <a:t>المقدم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ن الزخرفة تعتبر من أهم الفنون التشكيلية وأعظمها أثر في اكتساب معظم المنتجات الحرف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لقد دعا الدين الإسلامي إلى التأمل والتبصير ودعوته إلى التعاون وفتح العرب المسلمين أفاق عديدة فانصرفوا  يؤسسون ويبدعون وقد أبدع الفنان المسلم في فنون العمارة وكان لها أسلوبان وهما الزخرفة – التجريد.ومنها اليوم درسنا عن الزخرفة الإسلام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d60093"/>
                </a:solidFill>
                <a:uFillTx/>
                <a:latin typeface="Arial"/>
                <a:cs typeface="Arabic Transparent"/>
              </a:rPr>
              <a:t>عرض الدرس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ea typeface="Arabic Transparent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عرض على الطالبات أنواع الزخارف الإسلامية وهي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زخارف نباتية- زخارف حيوانية. - زخارف هندسية - زخارف كتاب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  هناك سمات الزخارف الإسلام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راهية الفراغ.- سطحية الزخارف.- البعد عن الطبيعة. - التكرار.- المسحة الهندسية وغيرها.- تحويل الغث  إلى ثمين. - البعد عن الكائنات الح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قد استخدمت هذه في كافة المجالات مثل الأنسجة – السجاد التكفيب بالذهب والفضة والحفر على الخشب والحجر والرخام واستخدمت أرضيات للكتابة في الأفاريز وغيرها ونجد أن عناصر الأولية للزخرفة هي: الخط – النقطة – الكلمة الحرف وغير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إن هناك قواعد للعمل الفني للزخرفة وهي كالآتي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توازن – التناظر – التشعب – التكر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5690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واز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يقص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وزي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ألوا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طري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كامل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متناس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داخ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وعا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ص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و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صمي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ساويا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طري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ه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خ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يرتب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ع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خطيط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ايمك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جزئت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حت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ظه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فكك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كل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و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صمي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قاب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عض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بع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ل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كمل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نبثا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خطو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وحد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قط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خار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نقس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قط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خ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جم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ي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ثي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زخرف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وضا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ختل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ل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ظا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خا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ختل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خ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تنو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  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الآت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اد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تباد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-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تساق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كس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ائ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منح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دائر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أفق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رأس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a50021"/>
                </a:solidFill>
                <a:uFillTx/>
                <a:latin typeface="Arial"/>
              </a:rPr>
              <a:t>التطبيق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Arial"/>
                <a:ea typeface="Browallia Ne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قو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طالب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رس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زخر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سلام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استخدا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حر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رب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حي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ت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راع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قواع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لزخر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خت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حديه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كر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ح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ساب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ذك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راع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د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نظا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91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60c33"/>
                </a:solidFill>
                <a:latin typeface="Arial"/>
                <a:cs typeface="Andalus"/>
              </a:rPr>
              <a:t>مع تحيات ني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20:41:52Z</dcterms:created>
  <dc:creator>digital wave</dc:creator>
  <dc:description/>
  <dc:language>en-US</dc:language>
  <cp:lastModifiedBy>digital wave</cp:lastModifiedBy>
  <dcterms:modified xsi:type="dcterms:W3CDTF">2004-02-16T21:43:23Z</dcterms:modified>
  <cp:revision>3</cp:revision>
  <dc:subject/>
  <dc:title>الموضوع:- تكوين زخارف إسلامية  (بحرف عربي)</dc:title>
</cp:coreProperties>
</file>