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9AF-1249-4486-8848-2C434D88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CD3-2A17-4D0D-8B53-F4A4ACED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E98-48ED-4FD9-91A7-C253A05D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88F-464F-4D12-B29F-130B6925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4AC-391E-449C-AB5A-04E8C1C3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0D6-2C84-47F6-B43C-5634471D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F7E-57DF-43AC-A968-38FF3C02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DC9-BCB7-4FDE-8234-9E034813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309F-D12D-426E-9710-2C0E8EA2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A91-76B1-41EC-905F-2D9135EB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301-D504-4272-B45B-211CE58B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FFF-48B6-4F61-B623-6A7BB4A6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29E7-E2AA-4FC1-B9BA-3538E3C66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386000">
            <a:off x="1476000" y="2206440"/>
            <a:ext cx="33814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CS Hijaz S_U adorn."/>
              </a:rPr>
              <a:t> </a:t>
            </a:r>
            <a:r>
              <a:rPr b="0" lang="hi-IN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CS Hijaz S_U adorn."/>
              </a:rPr>
              <a:t>اقنعه بخامة الورق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MCS Hijaz S_U adorn."/>
              <a:ea typeface="MCS Hijaz S_U adorn."/>
            </a:endParaRPr>
          </a:p>
        </p:txBody>
      </p:sp>
      <p:sp>
        <p:nvSpPr>
          <p:cNvPr id="42" name=""/>
          <p:cNvSpPr txBox="1"/>
          <p:nvPr/>
        </p:nvSpPr>
        <p:spPr>
          <a:xfrm rot="19458000">
            <a:off x="2529000" y="3030120"/>
            <a:ext cx="1498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CS Diwany2 S_U normal."/>
              </a:rPr>
              <a:t>اعداد / سدين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CS Diwany2 S_U normal."/>
              <a:ea typeface="MCS Diwany2 S_U normal."/>
            </a:endParaRPr>
          </a:p>
        </p:txBody>
      </p:sp>
      <p:sp>
        <p:nvSpPr>
          <p:cNvPr id="43" name=""/>
          <p:cNvSpPr txBox="1"/>
          <p:nvPr/>
        </p:nvSpPr>
        <p:spPr>
          <a:xfrm rot="19451400">
            <a:off x="5183280" y="483552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S_Future"/>
              </a:rPr>
              <a:t>منتدى التربية الفنية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S_Future"/>
              <a:ea typeface="FS_Future"/>
            </a:endParaRPr>
          </a:p>
        </p:txBody>
      </p:sp>
    </p:spTree>
  </p:cSld>
  <p:transition spd="slow" advTm="14000">
    <p:newsflash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mph" presetID="22" repeatCount="1000">
                                  <p:stCondLst>
                                    <p:cond delay="2000"/>
                                  </p:stCondLst>
                                  <p:childTnLst>
                                    <p:animClr clrSpc="hsl" dir="cw">
                                      <p:cBhvr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50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 advTm="11000">
    <p:blinds dir="horz"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 repeatCount="2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 advTm="6000">
    <p:comb dir="vert"/>
    <p:sndAc>
      <p:stSnd>
        <p:snd r:embed="rId4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9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" nodeType="afterEffect" fill="hold" presetClass="emph" presetID="14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9:42:42Z</dcterms:created>
  <dc:creator>wasat</dc:creator>
  <dc:description/>
  <dc:language>en-US</dc:language>
  <cp:lastModifiedBy>wasat</cp:lastModifiedBy>
  <dcterms:modified xsi:type="dcterms:W3CDTF">2006-02-03T20:14:39Z</dcterms:modified>
  <cp:revision>3</cp:revision>
  <dc:subject/>
  <dc:title>الشريحة 1</dc:title>
</cp:coreProperties>
</file>