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A39-5076-4C4C-BB6C-359DBA9E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49E-56DC-4EC2-B1A0-27DAC8A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C43-E572-464A-96F0-49D0EFC7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604-2362-40CD-B2EF-EEB67330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0BD-5767-4DF3-A2FC-9DEE1F8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71D-0EB1-4638-AC88-12070514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46C-8145-4337-80FC-78955BA6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81A-4EE9-4D4B-8598-FB0F00A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707-F18E-4016-9CFD-60818D7A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7B2-E825-4DCC-9110-55E0707B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7E2-2140-48AE-AFDE-2DCC24B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589-ACF5-4B25-A540-6D736C5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EA3E-6B50-437E-95EE-8C04E524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386000">
            <a:off x="1476000" y="2206440"/>
            <a:ext cx="338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CS Hijaz S_U adorn."/>
              </a:rPr>
              <a:t> </a:t>
            </a: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CS Hijaz S_U adorn."/>
              </a:rPr>
              <a:t>اقنعه بخامة الور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MCS Hijaz S_U adorn."/>
              <a:ea typeface="MCS Hijaz S_U adorn."/>
            </a:endParaRPr>
          </a:p>
        </p:txBody>
      </p:sp>
      <p:sp>
        <p:nvSpPr>
          <p:cNvPr id="42" name=""/>
          <p:cNvSpPr txBox="1"/>
          <p:nvPr/>
        </p:nvSpPr>
        <p:spPr>
          <a:xfrm rot="19458000">
            <a:off x="2529000" y="3030120"/>
            <a:ext cx="149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CS Diwany2 S_U normal."/>
              </a:rPr>
              <a:t>اعداد / سدين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CS Diwany2 S_U normal."/>
              <a:ea typeface="MCS Diwany2 S_U normal."/>
            </a:endParaRPr>
          </a:p>
        </p:txBody>
      </p:sp>
      <p:sp>
        <p:nvSpPr>
          <p:cNvPr id="43" name=""/>
          <p:cNvSpPr txBox="1"/>
          <p:nvPr/>
        </p:nvSpPr>
        <p:spPr>
          <a:xfrm rot="19451400">
            <a:off x="5183280" y="483552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S_Future"/>
              </a:rPr>
              <a:t>منتدى التربية الفنية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S_Future"/>
              <a:ea typeface="FS_Future"/>
            </a:endParaRPr>
          </a:p>
        </p:txBody>
      </p:sp>
    </p:spTree>
  </p:cSld>
  <p:transition spd="slow" advTm="14000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22" repeatCount="100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11000">
    <p:blinds dir="horz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 repeatCount="2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6000">
    <p:comb dir="vert"/>
    <p:sndAc>
      <p:stSnd>
        <p:snd r:embed="rId4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" nodeType="afterEffect" fill="hold" presetClass="emph" presetID="14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42:42Z</dcterms:created>
  <dc:creator>wasat</dc:creator>
  <dc:description/>
  <dc:language>en-US</dc:language>
  <cp:lastModifiedBy>wasat</cp:lastModifiedBy>
  <dcterms:modified xsi:type="dcterms:W3CDTF">2006-02-03T20:14:39Z</dcterms:modified>
  <cp:revision>3</cp:revision>
  <dc:subject/>
  <dc:title>الشريحة 1</dc:title>
</cp:coreProperties>
</file>