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038-5A56-4C3B-BEB6-9532CBD2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AC9-A89A-454C-81B2-15775078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250-2AB9-47E5-9C63-7406BD82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0273-2D70-477B-B26F-B83235489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5249-8F3C-43AE-B158-4921C4A0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FC7-16E4-41FD-8F30-F2479D74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DE1-F3B8-4469-B9A7-F7C5AF2E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596-1C75-421E-8D41-9C9678453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F4BF-E23A-41C5-929E-538E3808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B8F3-A1ED-49D2-AAF8-7D0F605F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F295-15E8-449C-B690-F15A9A7E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D7FD-F0A7-4DBD-A144-DB6B2BA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BB50-CB7C-4353-876D-288CC465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19386000">
            <a:off x="1476000" y="2206440"/>
            <a:ext cx="338148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MCS Hijaz S_U adorn."/>
              </a:rPr>
              <a:t> </a:t>
            </a:r>
            <a:r>
              <a:rPr b="0" lang="hi-IN" sz="18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MCS Hijaz S_U adorn."/>
              </a:rPr>
              <a:t>اقنعه بخامة الورق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latin typeface="MCS Hijaz S_U adorn."/>
              <a:ea typeface="MCS Hijaz S_U adorn."/>
            </a:endParaRPr>
          </a:p>
        </p:txBody>
      </p:sp>
      <p:sp>
        <p:nvSpPr>
          <p:cNvPr id="42" name=""/>
          <p:cNvSpPr txBox="1"/>
          <p:nvPr/>
        </p:nvSpPr>
        <p:spPr>
          <a:xfrm rot="19458000">
            <a:off x="2529000" y="3030120"/>
            <a:ext cx="14983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MCS Diwany2 S_U normal."/>
              </a:rPr>
              <a:t>اعداد / سدين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MCS Diwany2 S_U normal."/>
              <a:ea typeface="MCS Diwany2 S_U normal."/>
            </a:endParaRPr>
          </a:p>
        </p:txBody>
      </p:sp>
      <p:sp>
        <p:nvSpPr>
          <p:cNvPr id="43" name=""/>
          <p:cNvSpPr txBox="1"/>
          <p:nvPr/>
        </p:nvSpPr>
        <p:spPr>
          <a:xfrm rot="19451400">
            <a:off x="5183280" y="4835520"/>
            <a:ext cx="24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S_Future"/>
              </a:rPr>
              <a:t>منتدى التربية الفنية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S_Future"/>
              <a:ea typeface="FS_Future"/>
            </a:endParaRPr>
          </a:p>
        </p:txBody>
      </p:sp>
    </p:spTree>
  </p:cSld>
  <p:transition spd="slow" advTm="14000">
    <p:newsflash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22" repeatCount="1000">
                                  <p:stCondLst>
                                    <p:cond delay="2000"/>
                                  </p:stCondLst>
                                  <p:childTnLst>
                                    <p:animClr clrSpc="hsl" dir="cw">
                                      <p:cBhvr>
                                        <p:cTn id="10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2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3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1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11000">
    <p:blinds dir="horz"/>
    <p:sndAc>
      <p:stSnd>
        <p:snd r:embed="rId3" name="chimes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5" repeatCount="200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7880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p:transition spd="slow" advTm="6000">
    <p:comb dir="vert"/>
    <p:sndAc>
      <p:stSnd>
        <p:snd r:embed="rId4" name="chimes.wav"/>
      </p:stSnd>
    </p:sndAc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5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9000"/>
                            </p:stCondLst>
                            <p:childTnLst>
                              <p:par>
                                <p:cTn id="43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45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" dur="2850" fill="hold">
                                          <p:stCondLst>
                                            <p:cond delay="1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8" dur="3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9" dur="900" fill="hold">
                                          <p:stCondLst>
                                            <p:cond delay="2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200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500"/>
                            </p:stCondLst>
                            <p:childTnLst>
                              <p:par>
                                <p:cTn id="55" nodeType="afterEffect" fill="hold" presetClass="emph" presetID="14">
                                  <p:stCondLst>
                                    <p:cond delay="2500"/>
                                  </p:stCondLst>
                                  <p:childTnLst>
                                    <p:animClr clrSpc="rgb">
                                      <p:cBhvr>
                                        <p:cTn id="5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6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19:42:42Z</dcterms:created>
  <dc:creator>wasat</dc:creator>
  <dc:description/>
  <dc:language>en-US</dc:language>
  <cp:lastModifiedBy>wasat</cp:lastModifiedBy>
  <dcterms:modified xsi:type="dcterms:W3CDTF">2006-02-03T20:14:39Z</dcterms:modified>
  <cp:revision>3</cp:revision>
  <dc:subject/>
  <dc:title>الشريحة 1</dc:title>
</cp:coreProperties>
</file>