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6C6A-C097-4A74-946C-EB3182088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0F4F-A5A1-46BC-96C9-1EA2FEC4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D222-BEA5-44E6-AB6E-11CBE699B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8DD1-4054-49BF-96F0-D124FE81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42C0-4D8D-4583-AF95-46D66A75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9DC8-E368-4C27-944C-557D099B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C294-3834-476A-94A5-86B542F1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3834-6543-4D0C-A0BB-01C0F215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B67D-337D-4501-B251-053EC3CC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7E4A-3237-41D3-B370-32B7F994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FB6C-2654-4B79-BB72-67F13855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1404-017F-4E99-89F6-9D5DD734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F296-2C60-4FF6-8DE2-03A490E76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19386000">
            <a:off x="1476000" y="2206440"/>
            <a:ext cx="33814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MCS Hijaz S_U adorn."/>
              </a:rPr>
              <a:t> </a:t>
            </a:r>
            <a:r>
              <a:rPr b="0" lang="hi-IN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CS Hijaz S_U adorn."/>
              </a:rPr>
              <a:t>اقنعه بخامة الورق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latin typeface="MCS Hijaz S_U adorn."/>
              <a:ea typeface="MCS Hijaz S_U adorn."/>
            </a:endParaRPr>
          </a:p>
        </p:txBody>
      </p:sp>
      <p:sp>
        <p:nvSpPr>
          <p:cNvPr id="42" name=""/>
          <p:cNvSpPr txBox="1"/>
          <p:nvPr/>
        </p:nvSpPr>
        <p:spPr>
          <a:xfrm rot="19458000">
            <a:off x="2529000" y="3030120"/>
            <a:ext cx="14983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CS Diwany2 S_U normal."/>
              </a:rPr>
              <a:t>اعداد / سدين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CS Diwany2 S_U normal."/>
              <a:ea typeface="MCS Diwany2 S_U normal."/>
            </a:endParaRPr>
          </a:p>
        </p:txBody>
      </p:sp>
      <p:sp>
        <p:nvSpPr>
          <p:cNvPr id="43" name=""/>
          <p:cNvSpPr txBox="1"/>
          <p:nvPr/>
        </p:nvSpPr>
        <p:spPr>
          <a:xfrm rot="19451400">
            <a:off x="5183280" y="4835520"/>
            <a:ext cx="244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FS_Future"/>
              </a:rPr>
              <a:t>منتدى التربية الفنية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FS_Future"/>
              <a:ea typeface="FS_Future"/>
            </a:endParaRPr>
          </a:p>
        </p:txBody>
      </p:sp>
    </p:spTree>
  </p:cSld>
  <p:transition spd="slow" advTm="14000">
    <p:newsflash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mph" presetID="22" repeatCount="1000">
                                  <p:stCondLst>
                                    <p:cond delay="2000"/>
                                  </p:stCondLst>
                                  <p:childTnLst>
                                    <p:animClr clrSpc="hsl" dir="cw">
                                      <p:cBhvr>
                                        <p:cTn id="10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800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1500" autoRev="1" fill="hold"/>
                                        <p:tgtEl>
                                          <p:spTgt spid="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-316080"/>
            <a:ext cx="9144000" cy="7174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 advTm="11000">
    <p:blinds dir="horz"/>
    <p:sndAc>
      <p:stSnd>
        <p:snd r:embed="rId3" name="chimes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5" repeatCount="2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 advTm="6000">
    <p:comb dir="vert"/>
    <p:sndAc>
      <p:stSnd>
        <p:snd r:embed="rId4" name="chimes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9000"/>
                            </p:stCondLst>
                            <p:childTnLst>
                              <p:par>
                                <p:cTn id="43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5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8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9" dur="900" fill="hold">
                                          <p:stCondLst>
                                            <p:cond delay="21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8500"/>
                            </p:stCondLst>
                            <p:childTnLst>
                              <p:par>
                                <p:cTn id="55" nodeType="afterEffect" fill="hold" presetClass="emph" presetID="14">
                                  <p:stCondLst>
                                    <p:cond delay="2500"/>
                                  </p:stCondLst>
                                  <p:childTnLst>
                                    <p:animClr clrSpc="rgb">
                                      <p:cBhvr>
                                        <p:cTn id="5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19:42:42Z</dcterms:created>
  <dc:creator>wasat</dc:creator>
  <dc:description/>
  <dc:language>en-US</dc:language>
  <cp:lastModifiedBy>wasat</cp:lastModifiedBy>
  <dcterms:modified xsi:type="dcterms:W3CDTF">2006-02-03T20:14:39Z</dcterms:modified>
  <cp:revision>3</cp:revision>
  <dc:subject/>
  <dc:title>الشريحة 1</dc:title>
</cp:coreProperties>
</file>