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620A-FD84-4C70-9C6D-0D07355DF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5EB5-6E34-4F07-8CB7-09F2858A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0E85-31E3-47BD-A1CF-564C03E5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B587-545A-4BE8-9732-00740E5D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52BB-A84D-4547-A7D7-CA425DC1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5F61-8B27-4C8A-AE0C-A0691D61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D1A4-913C-45D0-9639-000E67F1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11D0-9706-4812-BDC6-FC00645B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8D22-BDAF-4FBD-9F69-04D96BE7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A9CC-13BB-4C41-80D0-59826246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7494-1E37-4AE2-9A2B-63017039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C8D8-00B0-4BD5-90FE-6C6B1E01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1F91-F00C-40EF-8F4D-5626BF72D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19386000">
            <a:off x="1476000" y="2206440"/>
            <a:ext cx="33814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MCS Hijaz S_U adorn."/>
              </a:rPr>
              <a:t> </a:t>
            </a:r>
            <a:r>
              <a:rPr b="0" lang="hi-IN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CS Hijaz S_U adorn."/>
              </a:rPr>
              <a:t>اقنعه بخامة الورق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latin typeface="MCS Hijaz S_U adorn."/>
              <a:ea typeface="MCS Hijaz S_U adorn."/>
            </a:endParaRPr>
          </a:p>
        </p:txBody>
      </p:sp>
      <p:sp>
        <p:nvSpPr>
          <p:cNvPr id="42" name=""/>
          <p:cNvSpPr txBox="1"/>
          <p:nvPr/>
        </p:nvSpPr>
        <p:spPr>
          <a:xfrm rot="19458000">
            <a:off x="2529000" y="3030120"/>
            <a:ext cx="14983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CS Diwany2 S_U normal."/>
              </a:rPr>
              <a:t>اعداد / سدين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CS Diwany2 S_U normal."/>
              <a:ea typeface="MCS Diwany2 S_U normal."/>
            </a:endParaRPr>
          </a:p>
        </p:txBody>
      </p:sp>
      <p:sp>
        <p:nvSpPr>
          <p:cNvPr id="43" name=""/>
          <p:cNvSpPr txBox="1"/>
          <p:nvPr/>
        </p:nvSpPr>
        <p:spPr>
          <a:xfrm rot="19451400">
            <a:off x="5183280" y="4835520"/>
            <a:ext cx="244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FS_Future"/>
              </a:rPr>
              <a:t>منتدى التربية الفنية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FS_Future"/>
              <a:ea typeface="FS_Future"/>
            </a:endParaRPr>
          </a:p>
        </p:txBody>
      </p:sp>
    </p:spTree>
  </p:cSld>
  <p:transition spd="slow" advTm="14000">
    <p:newsflash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mph" presetID="22" repeatCount="1000">
                                  <p:stCondLst>
                                    <p:cond delay="2000"/>
                                  </p:stCondLst>
                                  <p:childTnLst>
                                    <p:animClr clrSpc="hsl" dir="cw">
                                      <p:cBhvr>
                                        <p:cTn id="10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800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1500" autoRev="1" fill="hold"/>
                                        <p:tgtEl>
                                          <p:spTgt spid="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-316080"/>
            <a:ext cx="9144000" cy="7174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 advTm="11000">
    <p:blinds dir="horz"/>
    <p:sndAc>
      <p:stSnd>
        <p:snd r:embed="rId3" name="chimes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5" repeatCount="2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 advTm="6000">
    <p:comb dir="vert"/>
    <p:sndAc>
      <p:stSnd>
        <p:snd r:embed="rId4" name="chimes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9000"/>
                            </p:stCondLst>
                            <p:childTnLst>
                              <p:par>
                                <p:cTn id="43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5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8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9" dur="900" fill="hold">
                                          <p:stCondLst>
                                            <p:cond delay="21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8500"/>
                            </p:stCondLst>
                            <p:childTnLst>
                              <p:par>
                                <p:cTn id="55" nodeType="afterEffect" fill="hold" presetClass="emph" presetID="14">
                                  <p:stCondLst>
                                    <p:cond delay="2500"/>
                                  </p:stCondLst>
                                  <p:childTnLst>
                                    <p:animClr clrSpc="rgb">
                                      <p:cBhvr>
                                        <p:cTn id="5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19:42:42Z</dcterms:created>
  <dc:creator>wasat</dc:creator>
  <dc:description/>
  <dc:language>en-US</dc:language>
  <cp:lastModifiedBy>wasat</cp:lastModifiedBy>
  <dcterms:modified xsi:type="dcterms:W3CDTF">2006-02-03T20:14:39Z</dcterms:modified>
  <cp:revision>3</cp:revision>
  <dc:subject/>
  <dc:title>الشريحة 1</dc:title>
</cp:coreProperties>
</file>